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2F9-0D65-4F19-BF37-701A8BC4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EF6-EA0E-4414-B0AA-76FC822A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E8D-9F77-44F3-B24C-C4CC782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E3B-B486-47AA-88C9-F9EE1B69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4384D-9372-4D02-86D7-321DEC5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39EF2-417B-460B-A578-D05926A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07D39-7EDB-4D54-8A76-1A4FB115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1EFA-A0ED-47B3-8C2D-58CFF12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93412-B991-4A31-98C2-B36E20A9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5737B-0A6A-435A-95A3-922C077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1F91-427C-41CD-A511-D7630FA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2D1-E427-4682-9557-31C3DDA1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C305-E400-45A9-A319-0D05EAB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A682B-3E04-40C1-963B-0833A07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362B-390B-4A90-912B-64FA37AC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086A5-DE42-4F8E-95C3-FE228E9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7B46-4CDC-4C2C-A982-805C3716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F26CA-1427-44E5-BDF8-00526193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E7339-FEFA-4DBA-B558-4DD0FFE9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FC38E-2F20-41A6-9E4C-CD73B6B7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4EDB3-87CE-4273-87BA-7947A4DC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CEB98-9B50-44EE-AAF7-8CAAD5E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9B0-88AD-45F8-8D6C-64170C47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9FC23-256A-440B-8A36-2BB3E3D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0A06F-214C-4BBB-94EE-5024B24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543AC-8775-4BC7-90AC-C47A60A9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C36A-9551-49B3-9606-3034E4D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ED5F2-A743-4392-BDA6-FC72BDFB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26FDC-1DDB-4839-869E-FEEEBC54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6DBE3-EDA6-44B3-9062-E6F67FD1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701E0-3F6B-4642-A916-10079E8D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0DC4B-19FE-4272-A8DC-EAB3DAC6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62CA9-A8A0-4330-9021-C34BCC9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7A6-3748-48AB-850D-C422460A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1BE56-DBF7-4B00-B36F-75B8BAA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6991A-7883-4CC4-9167-2EED5A1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5AF60-0CA7-4E21-9E0A-4A8EF93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3FD50-69CA-46F9-90CA-F42507B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CB2B8-B8A2-4893-840C-8684109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F0DEB-CFE6-4B8A-8F83-363D6E7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EFBE0-AD4E-40CD-B282-81C39EC2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6A6A7-BE2F-43AD-B0ED-F36C5D9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2A8A9-6C7C-42E4-A014-0F898DDA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48CD-DDF3-4F22-B9ED-3058AD13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67C-3001-491E-8374-B90119C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FBE5-C8E9-4522-AE71-DBCA6DD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49EF-ED51-4BA6-89C8-1A995D4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B5D5-13F6-4B50-A9FC-A457CE5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B1E4-E00D-47B7-BE38-8EA82930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0668-0ED9-4D41-8D5C-3F243E25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0928-F8FB-4594-85E3-18F3EDA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BE36-2DEA-410C-A726-EC02904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1941-8FC4-4A0A-A058-96F524E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5087-F8C8-4E08-ABCE-AA37E27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7B5AB-5933-4408-8973-3A378C20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E15-4304-45F5-9418-C104A58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6672-8601-4BDB-9AA5-4875BCA2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432-3EA9-4C88-A108-9DF6CBD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E9D-06DF-481E-B040-BEDBDFC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3E9-512D-45D8-AE86-688EA84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2F0-38EC-4F92-AC12-AB1FD956E7DD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26A-8599-41D7-938B-4535D7874A31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798-1561-4178-8359-9F7BE8EEB804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FF8-1879-4170-817E-033DDC2B0310}" type="slidenum">
              <a:rPr b="1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440-4AD9-4577-94EF-8A1533F0C398}" type="slidenum">
              <a:rPr b="1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13716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In the play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Hamlet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the character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is portrayed a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character name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                                        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, this is evident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description of character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                                                                                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________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. This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evidence of characterization from the play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evidence (verb) _________________________________________ 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explain evidence:  says, means, matters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Shakespeare utilizes _____________ in order to help develop the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(character name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theme of </a:t>
            </a:r>
            <a:r>
              <a:rPr b="1" lang="en-US" sz="1700" spc="-1" strike="noStrike" u="sng">
                <a:solidFill>
                  <a:srgbClr val="ffffff"/>
                </a:solidFill>
                <a:uFillTx/>
                <a:latin typeface="Garamond"/>
              </a:rPr>
              <a:t>________________</a:t>
            </a: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_ .  He does so by ______________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(theme)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 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(explain how  the author connects the character to the theme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This is effective because _________________________________ . 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BODY MAP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1T05:10:12Z</dcterms:created>
  <dc:creator>Gabriela Mijares</dc:creator>
  <dc:description/>
  <dc:language>en-US</dc:language>
  <cp:lastModifiedBy>Raegan McGinnis</cp:lastModifiedBy>
  <dcterms:modified xsi:type="dcterms:W3CDTF">2015-02-24T16:44:18Z</dcterms:modified>
  <cp:revision>8</cp:revision>
  <dc:subject/>
  <dc:title>Body Map</dc:title>
</cp:coreProperties>
</file>